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EC7B-837D-458D-9C3B-F0984FC08968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2F55-448D-4CA4-B6D7-D50C8C6BC3F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9847-64EE-4760-855D-4A4D5D2A75C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92760" y="4952880"/>
            <a:ext cx="59184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1"/>
          <p:cNvSpPr/>
          <p:nvPr/>
        </p:nvSpPr>
        <p:spPr>
          <a:xfrm>
            <a:off x="412236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an be used for various purposes in addition to those initially planned by the investigators who originally collected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w products, such as maps, can be created and distribu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y be integrated with other data to create new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ies may be published about the use of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licies, plans, and reports may result from using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the use of scientific data identifies how the data have been used, can reveal benefits and impacts of their use, and can justify previous and future data effor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track data usag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producers, distributors, stewards, and sponsors need to know how the data have been used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termine whether the data are useful to other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will learn which communities the data are serving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document the data with descriptions of prior us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justify the costs of the effort and demonstrate the potential value of sponsoring future effor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wareness of how data have been used may identify opportunities for new data collection and distribution effort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data usage can justify the effort of collecting data and of developing and distributing data products or service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vidence of beneficial data use demonstrates accomplishments for those who contributed to the effort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scribing tracked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may be describe in terms of  users, such as discipline (oceanography, geology, etc.) or level of expertise.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s of the data can be categorized by purpos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ing uses of similar data should inform initial data development and dissemination pl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uses should inform enhancements for data products and related services and can be used to identify the impacts of the resour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 and subscribe to alerts from publish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data are sensitive and may require special handl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y be designated as sensitive for various reaso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esignation of data as sensitive may be permanent or temporar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nsitive data must be identified and properly handled to ensure that any sensitive information is not compromis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rs must ensure that sensitive data are adequately protected so that they are not accessed or modified by unauthorized persons and are not lost or misus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users must ensure that their handling or use does not violate any restrictions that have been placed on sensitive data that they us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is sensitive data a concern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y be designated as sensitive to protect individuals and other life forms, property, programs, or other interes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ws, regulations, or policies may designate data as sensitiv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icenses and agreements may specify requirements to protect data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curity: data about locations or property that cannot be disclos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ivacy and civil rights: personal or information identifying individual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vironmental information about locations or inhabitants that need to be prote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prietary information about new developments or technologie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iolating restrictions that have been placed on sensitive data is unethical and could result in civil or criminal penalties, such as fines, loss of privileges, or incarcer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are sensitive data handled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253800" y="2361960"/>
            <a:ext cx="1242036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and us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nsitive data must be protected to limit who may have access or how they are used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Authorization for access may be limited to specific individuals or specific purposes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nsitive data may require additional security, monitoring, and loss prevention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afeguards may need to limit modifications or derivations of sensitive data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Restrictions may limit whether sensitive data may be used in products or services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semination and cop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o is authorized to distribute the data, how the data may be distributed, and whether copies of the data may be creat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of sensitive data may be limited to a specific location or servic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may be limited to a specific time period, which may be in the futur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of data and derived products or associated services may be limited.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handling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 data that must be designated as sensitiv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signate data that are sensitive and label as sensitiv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ore sensitive data in secure facilit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nsport sensitive data using secure me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with sensitive data, a description of the conditions for handling sensitive data along with acceptable us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stablish infrastructure and procedures for storing, managing, disseminating, accessing, copying, transmitting, and using sensitiv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in staff on how to protect sensitive data from unauthorized 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of providing access to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imit access to authorized individuals or rol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able access within a facility only accessible by authorized pers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imit access to authorized individuals with password-protection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stablish a data enclave without capabilities to copy or transmit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rovide options for authorizing access to sensitive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evidence of approval or expertis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users to sign a confidentiality, non-disclosure, or data use agreement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approval of data protection plan from potential user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an exception or waiver of restrictions under certain condi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clearance for specific individuals to access sensitiv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declassification of sensitive data from relevant authority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dify the data to protect sensitive por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hange aspects of data that are sensitive (recode, generaliz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move or obscure the portions of data that are sensitive (redact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82400" y="2324160"/>
            <a:ext cx="121158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view or establish organizational policies on sensitive 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dentify conditions under which sensitive data may be disseminated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lect a dissemination method that does not violate restrictions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reate a data dissemination plan for sensitive data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quest approval from authorities for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e data in accordance with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nitor data dissemination to ensure compliance with all restrictions on sensitive 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ease dissemination if restrictions on sensitive data are violated and immediately report any violations to authorities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your data - 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your aud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Mechanis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Data Usa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andling Sensitiv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pache Software Foundation: Licenses http://www.apache.org/licenses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determine your audienc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audience for data products or services influences the development and management of the resources to foster discovery, accessibility, understandability, and usability by the audienc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s, distributors, stewards, and sponsors of data need to know what audiences are being serv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velop resource for use by the audien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can package, promote, and disseminate resources to the audien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manage the data to meet current and prospective audience needs and assess its value to the audien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support data collection, development, and distribution for the audien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termine audience throughout data lifecyc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udience may be defined by user demographics, such as discipline (oceanography, geology, etc.) or level of expertise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udience may be defined by the application and uses of data products and servic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ation of the intended audience should inform initial data development and dissemination pl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audiences should inform enhancements for data products and related services and can be used to identify the impacts of the resour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determining current audie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igh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ellectual property rights for the use of data are decided by the producer (or owner, if different)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censes or permissions may allow others to use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escription of the rights for the use of data should be packaged with the data so that potential users can determine what they are allowed to do with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pplying non-restrictive licenses and open data practices can allow more uses of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also should be described for any documents, software code, or scripts that are needed to use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laws are not the same in every countr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 US, copyright is automatically applied to original works, not to fact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of rights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, stewards, and end-users of data need to receive rights for using data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s need rights to modify and disseminate the data and to allow others to distribute th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tewards need to acquire rights to maintain, modify, and store th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d-users need to acquire rights to use th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ipients of rights need to know what rights they have been granted for using the data so that they may exercise their rights and are aware of any restriction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imple language should be used to communicate rights assigned to the user.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f clear descriptions of the rights are packaged with the data, then users can easily learn about their rights and requests for rights will be limited.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Machine-readable rights descriptions can be harvested for distribution in catalogs.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ssigning rights: examp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680" y="2324160"/>
            <a:ext cx="1140912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ublic Domain – not copyrighted, permission is not requir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created by some government agencies may be in the public domain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in the public domain can be marked to identify them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Rights can be waived by applying a Creative Commons 0 (CC0) license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reativeCommons.org licenses for copyright holder to allow use, dissemination, derivation, integ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 License: requires attribution (cite the source)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D: requires attribution, no derivatives allowed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C License: requires attribution, no commercial use allowed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SA License: requires attribution, share alike using same license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pache.org license for copyright holder of scripts and computer cod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pplied to code to allow “worldwide, non-exclusive, no-charge, royalty-free, irrevocable copyright license to reproduce, prepare Derivative Works of, publicly display, publicly perform, sublicense, and distribute” (Apache License 2.0, 2004)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62" name="Picture 4" descr=""/>
          <p:cNvPicPr/>
          <p:nvPr/>
        </p:nvPicPr>
        <p:blipFill>
          <a:blip r:embed="rId1"/>
          <a:stretch/>
        </p:blipFill>
        <p:spPr>
          <a:xfrm>
            <a:off x="11111040" y="5318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5" descr=""/>
          <p:cNvPicPr/>
          <p:nvPr/>
        </p:nvPicPr>
        <p:blipFill>
          <a:blip r:embed="rId2"/>
          <a:stretch/>
        </p:blipFill>
        <p:spPr>
          <a:xfrm>
            <a:off x="11120400" y="5759280"/>
            <a:ext cx="838080" cy="295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"/>
          <p:cNvPicPr/>
          <p:nvPr/>
        </p:nvPicPr>
        <p:blipFill>
          <a:blip r:embed="rId3"/>
          <a:stretch/>
        </p:blipFill>
        <p:spPr>
          <a:xfrm>
            <a:off x="11142720" y="62056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7" descr=""/>
          <p:cNvPicPr/>
          <p:nvPr/>
        </p:nvPicPr>
        <p:blipFill>
          <a:blip r:embed="rId4"/>
          <a:stretch/>
        </p:blipFill>
        <p:spPr>
          <a:xfrm>
            <a:off x="11120400" y="662940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"/>
          <p:cNvPicPr/>
          <p:nvPr/>
        </p:nvPicPr>
        <p:blipFill>
          <a:blip r:embed="rId5"/>
          <a:stretch/>
        </p:blipFill>
        <p:spPr>
          <a:xfrm>
            <a:off x="10788480" y="8534520"/>
            <a:ext cx="148284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ccess Mechanism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provid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ingle or multiple distributors (version control, commitment, cited sourc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roducer’s website, project website, blog, Email, portable medi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tributo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’s website: organized by collections, projects, or produc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e access to packaged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 package includes documentation (any information users need to know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o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ree or fee, discovery, user capabilities, user services (help), registration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ganizational commitment, infrastructure, continuing managemen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2:27:21Z</dcterms:created>
  <dc:creator>Robert R Downs</dc:creator>
  <dc:description/>
  <dc:language>en-US</dc:language>
  <cp:lastModifiedBy>Carol Meyer</cp:lastModifiedBy>
  <dcterms:modified xsi:type="dcterms:W3CDTF">2011-12-06T02:42:02Z</dcterms:modified>
  <cp:revision>77</cp:revision>
  <dc:subject/>
  <dc:title>ESIP Federation 101</dc:title>
</cp:coreProperties>
</file>